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CC07-CF6B-469C-9A3E-71AB68220A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DENTIAL</a:t>
            </a: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6DA-E220-4960-9069-485469BB7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044F-1AD3-4C6E-8564-FAFB1CD5D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C08D-BF44-4AFC-9CA3-BDD5222F8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22A2-F576-44AE-A357-FE80C475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6AB4-BADD-42C8-966F-43AB5B9C1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E7D8-EA96-491C-84A7-7D0063911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00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1E68-F993-44DF-979C-98E92BF98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36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36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FC88-023A-41A4-9664-92D1EE4F9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AA6A-0C89-4D2A-8014-1FC8EE36F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7739-5CAD-40A4-85B0-739E170B5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B6BB-0C4E-4A3D-8D90-410C6CA32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BADB-D4B7-4B50-865B-896C8998F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4E84-344B-477B-AFBE-9FC9C30F3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9826-BFBB-49C8-92A9-DAFB69555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00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CA42-E4B6-41FE-A3D0-C0C81598A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02EA-676A-4AAA-8EE8-E49913BD8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4738680" y="276120"/>
            <a:ext cx="4119480" cy="581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L_429_2half.jpg"/>
          <p:cNvPicPr/>
          <p:nvPr/>
        </p:nvPicPr>
        <p:blipFill>
          <a:blip r:embed="rId3"/>
          <a:stretch/>
        </p:blipFill>
        <p:spPr>
          <a:xfrm>
            <a:off x="142920" y="200160"/>
            <a:ext cx="2666880" cy="6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400" y="63399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FIDENTIAL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62600" y="6339960"/>
            <a:ext cx="201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1680-F710-453B-A3E2-59D91FFCCEA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18FC-DAC0-49A5-B46E-BF79124E504E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615920"/>
            <a:ext cx="4572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Prepar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John M. Mallers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MAXIMUS Consulting Servic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September 25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_429_2half.jpg"/>
          <p:cNvPicPr/>
          <p:nvPr/>
        </p:nvPicPr>
        <p:blipFill>
          <a:blip r:embed="rId1"/>
          <a:stretch/>
        </p:blipFill>
        <p:spPr>
          <a:xfrm>
            <a:off x="0" y="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53" name="Title 1"/>
          <p:cNvSpPr/>
          <p:nvPr/>
        </p:nvSpPr>
        <p:spPr>
          <a:xfrm>
            <a:off x="0" y="2101680"/>
            <a:ext cx="4572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 IV-D Compliance and Revenue Opportunities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933800" y="55080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ociation of Indiana Counties </a:t>
            </a: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Conference 2012</a:t>
            </a: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4573440" y="0"/>
            <a:ext cx="457056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12" descr="AIC Color Logo 300 dpi color.JPG"/>
          <p:cNvPicPr/>
          <p:nvPr/>
        </p:nvPicPr>
        <p:blipFill>
          <a:blip r:embed="rId2"/>
          <a:stretch/>
        </p:blipFill>
        <p:spPr>
          <a:xfrm>
            <a:off x="5543640" y="2365200"/>
            <a:ext cx="27432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FBD-6F57-492D-91F2-438C35C14FC0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Cost Alloca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104760" y="1181160"/>
          <a:ext cx="9039240" cy="57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181160"/>
                    <a:ext cx="90392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067280" y="2838600"/>
            <a:ext cx="1571400" cy="171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600960" y="3990960"/>
            <a:ext cx="590400" cy="123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480" y="1189080"/>
            <a:ext cx="88772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STATE OF INDIANA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ARTMENT OF CHILD SERVICES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MITTANCE NOTIC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epartment of Health &amp; Human Services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Office of Child Support Enforc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FDA 93.563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1204IN4005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Regular FFP Reimburs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OR PROSECUTORS, CLERKS, COURT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ERIO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ONTH OF MAY 20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ATE OF NOTICE: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7/20/20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 COUNTY AUDITOR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NO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401 EAST MAIN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OSIT TO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T ADMIN BLD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ICHMOND, IN 47374-42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UN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OUNTY GENERAL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10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IMBURSEMENT FOR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ONTH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IRCUIT COURT CLERK'S EXPENDITURES - CHILD SUPPORT PROGRAM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3,115.21* 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RT COST EXPENDITURES - CHILD SUPPORT PROGRAM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7,992.31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PROSECUTOR'S EXPENDITURES - CHILD SUPPORT PROGRAM (F)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6,174.25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OTAL 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17,281.77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IRECT DEPOSIT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* $150.88 of this amount is reimbursement of an expense, which was funded from the following fund: Clerk Perpetuation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Please deposit in the above referenced account.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005-AFA6-4A8A-A7AB-C5677FAF1770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3720" y="135540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5720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ittance Notices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0600" y="4410000"/>
            <a:ext cx="3362400" cy="39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190600" y="2076480"/>
            <a:ext cx="1819440" cy="34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338-E1DD-4367-8075-F25B7338785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59"/>
          <p:cNvGraphicFramePr/>
          <p:nvPr/>
        </p:nvGraphicFramePr>
        <p:xfrm>
          <a:off x="366840" y="919080"/>
          <a:ext cx="8415360" cy="52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1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919080"/>
                    <a:ext cx="841536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86160" y="3809880"/>
            <a:ext cx="685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219640" y="3200400"/>
            <a:ext cx="2448000" cy="2379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76440" y="2619360"/>
            <a:ext cx="2305080" cy="13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A64-7C8D-4CCA-A1FC-6F7710773A23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81040" y="592200"/>
            <a:ext cx="77058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STATE OF INDIANA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ARTMENT OF CHILD SERVICE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MITTANCE NOTIC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epartment of Health &amp; Human Services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Office of Child Support Enforc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FDA 93.563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1104IN4004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FY 2011 Prospective Incentiv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OR PROSECUTORS, CLERKS, TITLE IV-D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ERIO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FY 2011 3rd Quarter Prospective Incentiv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ATE OF NOTICE: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7/11/2012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 COUNTY AUDITOR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NO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401 EAST MAIN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OSIT TO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T ADMIN BLD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ICHMOND, IN 47374-42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UN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INCENTIV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LEASE APPLY AMOUNTS AS FOLLOWS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AMOUNT: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PROSECUTOR INCENTIVE FUND - CHILD SUPPORT PROGRAM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7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11,754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LERK INCENTIVE FUND - CHILD SUPPORT PROGRAM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9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   $7,812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ITLE IV-D INCENTIVE FUND - CHILD SUPPORT PROGRAM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5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   $7,812.00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OTAL 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27,378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IRECT DEPOSIT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c: Clerk of Court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IV-D Deputy Prosecuting Attorney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he funds are Federal Title IV-D Incentive Funds.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funds are required to be timely transferred to the appropriate accounts in accordance with the provisions in IC 31-25-4-23 and IC 31-25-4-23.5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incentive funds shall not be commingled with other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funds must be used in accordance with 42 USC Section 658 a, 45 CFR 305, and IC 31-25-4-23 and IC 31-25-4-23.5 and that fund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ust be reinvested into the Title IV-D program and are required to supplement and not supplant existin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rogram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his is not ARRA money. The funds are Incentive funds and should be directed to the above referenced Incentive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5E5-2482-4950-B0FE-630989A8A127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3720" y="135540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C 33-37-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b) The clerk may use any money in the fund for the following purpo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) The preservation of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2) The improvement of record keeping systems and equi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3) Case management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rvation of records would include processes to preserve old and delicate documents, costs of binding documents for long term storage, scanning documents for electronic storage, security systems, lock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of record keeping systems and equipment include scanners, computers and related equipment, copiers, shelving unit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management syste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imbursements for Title IV-D expenses paid out of Clerk’s Perpetuation go back into the Perpetuation F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45720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rk’s Record Perpetuation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F150-5D7F-4968-805E-101EE377697C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ntive Funds and Bon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7840" y="1228680"/>
            <a:ext cx="82296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es can be paid from incentive funds, but you have to consider the amount of IV-D wages that have already been reimbursed or previously paid from incentive funds on the employee’s be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be aware of an employee’s IV-D percentage to avoid claiming too much of a reimbursement or making improper payments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 A makes $30,000 and has a IV-D percentage of 20% based on time repor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$30,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-D 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6,000   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bonus of $2,000 is to be paid to this employee, and the entire $6,000 of wages was previously claimed for reimbursement or paid from incentive funds, then only 20% of the bonus is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s and Bon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$3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-D 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6,400  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$4,000 of Employee A’s wages were reimbursed or paid from incentive funds, then the entire $2,000 bonus could be eligible for reimbursement or paid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D4B-A5C2-43B1-B7D9-623C55E743F5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2440" y="1390680"/>
            <a:ext cx="849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98989"/>
                </a:solidFill>
                <a:latin typeface="Calibri"/>
              </a:rPr>
              <a:t>John Mallers, CPA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Principal Consultant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XIMUS Consulting Services, Inc.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429 North Pennsylvania Street, Suite 301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Indianapolis, Indiana 46204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800.618.7364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johnmallers@maximus.com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-304920" y="4486320"/>
            <a:ext cx="8591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Find us at www.facebook.com/MAXIMUSIndiana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66560" y="55339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XIMUS is the </a:t>
            </a:r>
            <a:r>
              <a:rPr b="0" lang="en-US" sz="2500" spc="-1" strike="noStrike" u="sng">
                <a:solidFill>
                  <a:srgbClr val="898989"/>
                </a:solidFill>
                <a:uFillTx/>
                <a:latin typeface="Calibri"/>
              </a:rPr>
              <a:t>only </a:t>
            </a: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Title IV-D vendor endorsed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by the Association of Indiana Counties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1" name="Straight Connector 11"/>
          <p:cNvSpPr/>
          <p:nvPr/>
        </p:nvSpPr>
        <p:spPr>
          <a:xfrm>
            <a:off x="0" y="4238640"/>
            <a:ext cx="7629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6" descr="f_logo"/>
          <p:cNvPicPr/>
          <p:nvPr/>
        </p:nvPicPr>
        <p:blipFill>
          <a:blip r:embed="rId1"/>
          <a:stretch/>
        </p:blipFill>
        <p:spPr>
          <a:xfrm>
            <a:off x="7419960" y="3733920"/>
            <a:ext cx="1552680" cy="155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AIC Color Logo 300 dpi color.JPG"/>
          <p:cNvPicPr/>
          <p:nvPr/>
        </p:nvPicPr>
        <p:blipFill>
          <a:blip r:embed="rId2"/>
          <a:stretch/>
        </p:blipFill>
        <p:spPr>
          <a:xfrm>
            <a:off x="0" y="5067360"/>
            <a:ext cx="1771560" cy="179064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2"/>
          <p:cNvSpPr/>
          <p:nvPr/>
        </p:nvSpPr>
        <p:spPr>
          <a:xfrm>
            <a:off x="1514520" y="5448240"/>
            <a:ext cx="7629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4:36:28Z</dcterms:created>
  <dc:creator>sl44164</dc:creator>
  <dc:description>11/30/2009 - Version 20.  Revised "Financial Analysis" section to accommodate Accounting Assessment.</dc:description>
  <dc:language>en-US</dc:language>
  <cp:lastModifiedBy>23080</cp:lastModifiedBy>
  <dcterms:modified xsi:type="dcterms:W3CDTF">2012-09-23T14:17:07Z</dcterms:modified>
  <cp:revision>408</cp:revision>
  <dc:subject/>
  <dc:title>BRC Template (v20)</dc:title>
</cp:coreProperties>
</file>