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35F7-EF07-40C3-AFFE-FE8F65C32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DENTIAL</a:t>
            </a: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1B67-E237-47EB-A7A5-5C05638E0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4E2B-8CB4-4155-AFFD-520F7B554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C882-6BE7-4B3F-AC9D-BD4B5D4A2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0C5-F925-42F8-9E38-66379B5B2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0A7A-8E78-4370-B08C-648F59A3F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1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31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36FF-EE99-4FA7-BB5A-E6AD445F7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00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A198-B723-4ECF-9E0A-70E9F9004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360" y="160020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160020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360" y="396432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3964320"/>
            <a:ext cx="267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21B7-90BC-45E0-B31A-A5825D091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631F-9EE2-4EB5-97D1-1CDAE65C7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5F18-E6D4-4DE6-8E2F-8CB953087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E903-19C6-4F11-85A2-5756B7BB0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AD94-9951-4081-96D7-39FBDE136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E186-A262-4D7A-AB99-CCC215D51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AC53-7E39-47D4-A634-25C5E9707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000" y="396432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9842-6C6A-4A2D-939E-FB81BC963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05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31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7E41-DC5B-4F37-8E8B-573576744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4738680" y="276120"/>
            <a:ext cx="4119480" cy="581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L_429_2half.jpg"/>
          <p:cNvPicPr/>
          <p:nvPr/>
        </p:nvPicPr>
        <p:blipFill>
          <a:blip r:embed="rId3"/>
          <a:stretch/>
        </p:blipFill>
        <p:spPr>
          <a:xfrm>
            <a:off x="142920" y="200160"/>
            <a:ext cx="2666880" cy="6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6400" y="63399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FIDENTIAL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62600" y="6339960"/>
            <a:ext cx="201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E10B-BFEE-4C68-86A1-F6B3B19B51DE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6E03-0D3B-439F-A7C4-7EB30C01C3C7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615920"/>
            <a:ext cx="4572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Prepar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John M. Mallers, C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MAXIMUS Consulting Servic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September 25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_429_2half.jpg"/>
          <p:cNvPicPr/>
          <p:nvPr/>
        </p:nvPicPr>
        <p:blipFill>
          <a:blip r:embed="rId1"/>
          <a:stretch/>
        </p:blipFill>
        <p:spPr>
          <a:xfrm>
            <a:off x="0" y="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53" name="Title 1"/>
          <p:cNvSpPr/>
          <p:nvPr/>
        </p:nvSpPr>
        <p:spPr>
          <a:xfrm>
            <a:off x="0" y="2101680"/>
            <a:ext cx="4572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 IV-D Compliance and Revenue Opportunities</a:t>
            </a: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933800" y="55080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ociation of Indiana Counties </a:t>
            </a: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Conference 2012</a:t>
            </a: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4573440" y="0"/>
            <a:ext cx="457056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12" descr="AIC Color Logo 300 dpi color.JPG"/>
          <p:cNvPicPr/>
          <p:nvPr/>
        </p:nvPicPr>
        <p:blipFill>
          <a:blip r:embed="rId2"/>
          <a:stretch/>
        </p:blipFill>
        <p:spPr>
          <a:xfrm>
            <a:off x="5543640" y="2365200"/>
            <a:ext cx="27432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2BC5-4CCF-479F-86D1-93859658A2A8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Cost Alloca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104760" y="1181160"/>
          <a:ext cx="9039240" cy="57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181160"/>
                    <a:ext cx="903924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067280" y="2838600"/>
            <a:ext cx="1571400" cy="171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600960" y="3990960"/>
            <a:ext cx="590400" cy="123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480" y="1189080"/>
            <a:ext cx="88772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STATE OF INDIANA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ARTMENT OF CHILD SERVICES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EMITTANCE NOTIC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Department of Health &amp; Human Services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Office of Child Support Enforcement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FDA 93.563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1204IN4005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Regular FFP Reimbursement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OR PROSECUTORS, CLERKS, COURTS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ERIO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MONTH OF MAY 20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ATE OF NOTICE: 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7/20/20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 COUNTY AUDITOR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NTY NO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401 EAST MAIN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OSIT TO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T ADMIN BLDG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ICHMOND, IN 47374-42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UN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OUNTY GENERAL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10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EIMBURSEMENT FOR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MONTH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AMOUNT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IRCUIT COURT CLERK'S EXPENDITURES - CHILD SUPPORT PROGRAM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05/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$3,115.21* 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RT COST EXPENDITURES - CHILD SUPPORT PROGRAM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05/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$7,992.31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NTY PROSECUTOR'S EXPENDITURES - CHILD SUPPORT PROGRAM (F)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05/12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$6,174.25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OTAL AMOUNT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$17,281.77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IRECT DEPOSIT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* $150.88 of this amount is reimbursement of an expense, which was funded from the following fund: Clerk Perpetuation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Please deposit in the above referenced account.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14E9-FFF6-4D08-833E-07ECE049418C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3720" y="135540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45720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ittance Notices</a:t>
            </a: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0600" y="4410000"/>
            <a:ext cx="3362400" cy="390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190600" y="2076480"/>
            <a:ext cx="1819440" cy="34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7695-03A4-4E34-A273-BE0A0C260E5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59"/>
          <p:cNvGraphicFramePr/>
          <p:nvPr/>
        </p:nvGraphicFramePr>
        <p:xfrm>
          <a:off x="366840" y="919080"/>
          <a:ext cx="8415360" cy="52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1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919080"/>
                    <a:ext cx="841536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286160" y="3809880"/>
            <a:ext cx="685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219640" y="3200400"/>
            <a:ext cx="2448000" cy="2379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476440" y="2619360"/>
            <a:ext cx="2305080" cy="13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31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F2D-8A7A-4552-9730-95C8E79BB434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81040" y="592200"/>
            <a:ext cx="77058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STATE OF INDIANA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ARTMENT OF CHILD SERVICES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EMITTANCE NOTICE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Department of Health &amp; Human Services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Office of Child Support Enforcement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FDA 93.563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1104IN4004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FY 2011 Prospective Incentive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OR PROSECUTORS, CLERKS, TITLE IV-D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ERIO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FY 2011 3rd Quarter Prospective Incentiv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DATE OF NOTICE: 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7/11/2012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WAYNE COUNTY AUDITOR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OUNTY NO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401 EAST MAIN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EPOSIT TO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T ADMIN BLDG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RICHMOND, IN 47374-4289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FUND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INCENTIVE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LEASE APPLY AMOUNTS AS FOLLOWS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AMOUNT: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PROSECUTOR INCENTIVE FUND - CHILD SUPPORT PROGRAM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8897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3rd Quarter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89Wayn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$11,754.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CLERK INCENTIVE FUND - CHILD SUPPORT PROGRAM 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8899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3rd Quarter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89Wayn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   $7,812.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TITLE IV-D INCENTIVE FUND - CHILD SUPPORT PROGRAM 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FUND 8895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3rd Quarter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89Wayne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   $7,812.00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OTAL AMOUNT: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$27,378.00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DIRECT DEPOSIT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cc: Clerk of Court 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IV-D Deputy Prosecuting Attorney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The funds are Federal Title IV-D Incentive Funds.</a:t>
            </a: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he funds are required to be timely transferred to the appropriate accounts in accordance with the provisions in IC 31-25-4-23 and IC 31-25-4-23.5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he incentive funds shall not be commingled with other funds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The funds must be used in accordance with 42 USC Section 658 a, 45 CFR 305, and IC 31-25-4-23 and IC 31-25-4-23.5 and that funds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must be reinvested into the Title IV-D program and are required to supplement and not supplant existing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program funds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98989"/>
                </a:solidFill>
                <a:latin typeface="Calibri"/>
              </a:rPr>
              <a:t>This is not ARRA money. The funds are Incentive funds and should be directed to the above referenced Incentive Funds.</a:t>
            </a: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0E9-2D63-40DC-B514-09B539918BF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3720" y="135540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C 33-37-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b) The clerk may use any money in the fund for the following purpo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) The preservation of rec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2) The improvement of record keeping systems and equi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3) Case management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rvation of records would include processes to preserve old and delicate documents, costs of binding documents for long term storage, scanning documents for electronic storage, security systems, lock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 of record keeping systems and equipment include scanners, computers and related equipment, copiers, shelving unit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management syste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imbursements for Title IV-D expenses paid out of Clerk’s Perpetuation go back into the Perpetuation F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45720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rk’s Record Perpetuation</a:t>
            </a: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FAF-5D28-4FB2-93BB-B5104A986BE4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entive Funds and Bon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7840" y="1228680"/>
            <a:ext cx="82296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es can be paid from incentive funds, but you have to consider the amount of IV-D wages that have already been reimbursed or previously paid from incentive funds on the employee’s beha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be aware of an employee’s IV-D percentage to avoid claiming too much of a reimbursement or making improper payments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 A makes $30,000 and has a IV-D percentage of 20% based on time repor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$30,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-D 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6,000    Eligible for reimbursement or payable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bonus of $2,000 is to be paid to this employee, and the entire $6,000 of wages was previously claimed for reimbursement or paid from incentive funds, then only 20% of the bonus is eligible for reimbursement or payable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es and Bon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$3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-D 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6,400   Eligible for reimbursement or payable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$4,000 of Employee A’s wages were reimbursed or paid from incentive funds, then the entire $2,000 bonus could be eligible for reimbursement or paid from incentive f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6762600" y="6340320"/>
            <a:ext cx="201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02C7-E5AA-48E9-8790-B54685A4F42A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52440" y="1390680"/>
            <a:ext cx="8496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98989"/>
                </a:solidFill>
                <a:latin typeface="Calibri"/>
              </a:rPr>
              <a:t>John Mallers, CPA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Principal Consultant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MAXIMUS Consulting Services, Inc.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429 North Pennsylvania Street, Suite 301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Indianapolis, Indiana 46204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800.618.7364 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johnmallers@maximus.com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-304920" y="4486320"/>
            <a:ext cx="8591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Find us at www.facebook.com/MAXIMUSIndiana 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66560" y="55339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MAXIMUS is the </a:t>
            </a:r>
            <a:r>
              <a:rPr b="0" lang="en-US" sz="2500" spc="-1" strike="noStrike" u="sng">
                <a:solidFill>
                  <a:srgbClr val="898989"/>
                </a:solidFill>
                <a:uFillTx/>
                <a:latin typeface="Calibri"/>
              </a:rPr>
              <a:t>only </a:t>
            </a: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Title IV-D vendor endorsed 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by the Association of Indiana Counties</a:t>
            </a:r>
            <a:endParaRPr b="0" lang="en-US" sz="2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1" name="Straight Connector 11"/>
          <p:cNvSpPr/>
          <p:nvPr/>
        </p:nvSpPr>
        <p:spPr>
          <a:xfrm>
            <a:off x="0" y="4238640"/>
            <a:ext cx="7629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Picture 6" descr="f_logo"/>
          <p:cNvPicPr/>
          <p:nvPr/>
        </p:nvPicPr>
        <p:blipFill>
          <a:blip r:embed="rId1"/>
          <a:stretch/>
        </p:blipFill>
        <p:spPr>
          <a:xfrm>
            <a:off x="7419960" y="3733920"/>
            <a:ext cx="1552680" cy="155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AIC Color Logo 300 dpi color.JPG"/>
          <p:cNvPicPr/>
          <p:nvPr/>
        </p:nvPicPr>
        <p:blipFill>
          <a:blip r:embed="rId2"/>
          <a:stretch/>
        </p:blipFill>
        <p:spPr>
          <a:xfrm>
            <a:off x="0" y="5067360"/>
            <a:ext cx="1771560" cy="179064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2"/>
          <p:cNvSpPr/>
          <p:nvPr/>
        </p:nvSpPr>
        <p:spPr>
          <a:xfrm>
            <a:off x="1514520" y="5448240"/>
            <a:ext cx="7629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4:36:28Z</dcterms:created>
  <dc:creator>sl44164</dc:creator>
  <dc:description>11/30/2009 - Version 20.  Revised "Financial Analysis" section to accommodate Accounting Assessment.</dc:description>
  <dc:language>en-US</dc:language>
  <cp:lastModifiedBy>23080</cp:lastModifiedBy>
  <dcterms:modified xsi:type="dcterms:W3CDTF">2012-09-23T14:17:07Z</dcterms:modified>
  <cp:revision>408</cp:revision>
  <dc:subject/>
  <dc:title>BRC Template (v20)</dc:title>
</cp:coreProperties>
</file>